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5D2-9DC6-4326-A4F0-E9AEEFBB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A5E-7ED9-402D-AE43-73BF8AA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222-45AF-4017-98C0-AA2C64AB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B46-5D42-4FBA-8A00-B9DB0995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293-02BD-4A61-ABF5-636E988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90E-020F-4628-92EF-2FB244D4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153-0BB5-489D-A642-51721B0D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F72-E82F-4383-AC38-3389321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1AF-F931-44A2-8E8C-5151B58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D4A-45CD-4410-9EA1-FCF3514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729-B355-4D35-ABBA-7520CD2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D3A-9BCC-4C31-847A-9E2F935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268-A86E-487F-9A18-7E8C1461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0:12Z</dcterms:created>
  <dc:creator>INVES-S6600A</dc:creator>
  <dc:description/>
  <dc:language>en-US</dc:language>
  <cp:lastModifiedBy>INVES-S6600A</cp:lastModifiedBy>
  <dcterms:modified xsi:type="dcterms:W3CDTF">2010-11-23T13:30:51Z</dcterms:modified>
  <cp:revision>1</cp:revision>
  <dc:subject/>
  <dc:title>Diapositiva 1</dc:title>
</cp:coreProperties>
</file>